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D81CDF-3F8D-4DAD-B0CD-9EBDC67BE7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9ABE065-B1C9-4CF6-A580-8FB54B50BA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06A2F25-FD67-4C30-9F0A-A8DDDA2358E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31F52EC-E186-4A0E-B00B-6D2BDD1391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E4F9A8-3280-4EAA-8F92-73CC1F0CA1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65D11A-6B1A-4C46-9B2D-4E36B1A4A86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FA9EF85-1883-49CD-B672-5AE1D2DC72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EC9A216-1C14-4EE2-96C2-F0D62D51586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52C0DCC-79D8-4527-B958-34C5C6CF30B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5189A70-E949-481F-B6E3-E7E985D326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18526A7-9ACC-424D-9D1A-242968DA7C7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D2844AE5-544E-47BE-9490-1875C49E11F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3D831D1-26AD-4490-89AB-3450782AAE8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2400" y="88848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2.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2240" y="1438200"/>
            <a:ext cx="7863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provides data that allows you to manage the cost of improving the quality of the programs you wri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templates will help you to record and document your design, making it easier to revie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3040" y="1438200"/>
            <a:ext cx="7743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ew elements of PSP2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2.1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2.1 for assignments 8A, 9A, and 10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.1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188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PSP2.1 are to int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itional measures for managing process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templates that provide an orderly framework and format for recording desig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22240" y="1440000"/>
            <a:ext cx="7624800" cy="3773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five new process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design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al scenario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 specification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templates are discussed in the lecture on software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304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of a completed PSP2.1 project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new items on this form are discu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able C6, page 638, of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5800" y="509400"/>
            <a:ext cx="7634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mmary:  Percent Appraisal COQ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10720" y="1442520"/>
            <a:ext cx="7410600" cy="22114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Appraisal Cost of 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percentage of development time spent in design review and code revie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Appraisal CO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0 * ((Design Review Time + Code Review Time) / Total Development Tim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922320" y="3218040"/>
          <a:ext cx="625320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3218040"/>
                    <a:ext cx="6253200" cy="3070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Oval 5"/>
          <p:cNvSpPr/>
          <p:nvPr/>
        </p:nvSpPr>
        <p:spPr>
          <a:xfrm>
            <a:off x="3228840" y="5264280"/>
            <a:ext cx="3721320" cy="277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544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mmary:  Percent Failure COQ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0720" y="1432080"/>
            <a:ext cx="7410600" cy="22111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Failure Cost of Qu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percentage of development time spent in compile and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% Failure CO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0 * ((Compile Time + Test Time) / Total Development Tim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6"/>
          <p:cNvGraphicFramePr/>
          <p:nvPr/>
        </p:nvGraphicFramePr>
        <p:xfrm>
          <a:off x="933480" y="3160800"/>
          <a:ext cx="625320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3160800"/>
                    <a:ext cx="6253200" cy="3070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6" name="Oval 5"/>
          <p:cNvSpPr/>
          <p:nvPr/>
        </p:nvSpPr>
        <p:spPr>
          <a:xfrm>
            <a:off x="3087720" y="5353200"/>
            <a:ext cx="4056120" cy="33624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544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Q A/F Ratio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10720" y="1442520"/>
            <a:ext cx="7790040" cy="22114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Q A/F Rat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ratio of appraisal costs to failure co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Q A/F Rati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% Appraisal COQ / % Failure COQ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922320" y="2743200"/>
          <a:ext cx="6253200" cy="307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2743200"/>
                    <a:ext cx="6253200" cy="30700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Oval 5"/>
          <p:cNvSpPr/>
          <p:nvPr/>
        </p:nvSpPr>
        <p:spPr>
          <a:xfrm>
            <a:off x="3335400" y="5146560"/>
            <a:ext cx="3703680" cy="37152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1T20:41:53Z</cp:lastPrinted>
  <dcterms:modified xsi:type="dcterms:W3CDTF">2018-09-06T00:17:01Z</dcterms:modified>
  <cp:revision>38</cp:revision>
  <dc:subject/>
  <dc:title>No Slide Title</dc:title>
</cp:coreProperties>
</file>